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CFF-376D-4A9C-987A-01ECD396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3C7-99CC-4AFD-B9F3-673D276B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DF6-EEB8-49A2-A40E-DF324260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673-2281-4FBD-B716-6C1373F5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042-3EA4-4ABB-ABD1-ACA2707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665-91ED-44B1-B811-A96E86A4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94D-094D-4045-88A0-F0684663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121-46C8-4E2E-8ACA-9366ADED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188-DD3E-4D6C-8CA6-95A4B281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F23-A073-4053-A857-BFE6B1B7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279-CCFE-4FB1-A0C4-FA024F77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9E7-0821-4F52-B911-03018ACA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3DB-AB33-48B4-BBD1-D970F6AF4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23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5.xml"/><Relationship Id="rId20" Type="http://schemas.openxmlformats.org/officeDocument/2006/relationships/slide" Target="slide23.xml"/><Relationship Id="rId21" Type="http://schemas.openxmlformats.org/officeDocument/2006/relationships/slide" Target="slide39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5.xml"/><Relationship Id="rId32" Type="http://schemas.openxmlformats.org/officeDocument/2006/relationships/slide" Target="slide35.xml"/><Relationship Id="rId33" Type="http://schemas.openxmlformats.org/officeDocument/2006/relationships/slide" Target="slide37.xml"/><Relationship Id="rId34" Type="http://schemas.openxmlformats.org/officeDocument/2006/relationships/slide" Target="slide37.xml"/><Relationship Id="rId35" Type="http://schemas.openxmlformats.org/officeDocument/2006/relationships/slide" Target="slide43.xml"/><Relationship Id="rId36" Type="http://schemas.openxmlformats.org/officeDocument/2006/relationships/slide" Target="slide39.xml"/><Relationship Id="rId37" Type="http://schemas.openxmlformats.org/officeDocument/2006/relationships/slide" Target="slide41.xml"/><Relationship Id="rId38" Type="http://schemas.openxmlformats.org/officeDocument/2006/relationships/slide" Target="slide15.xml"/><Relationship Id="rId39" Type="http://schemas.openxmlformats.org/officeDocument/2006/relationships/slide" Target="slide45.xml"/><Relationship Id="rId40" Type="http://schemas.openxmlformats.org/officeDocument/2006/relationships/slide" Target="slide45.xml"/><Relationship Id="rId41" Type="http://schemas.openxmlformats.org/officeDocument/2006/relationships/slide" Target="slide49.xml"/><Relationship Id="rId42" Type="http://schemas.openxmlformats.org/officeDocument/2006/relationships/slide" Target="slide25.xml"/><Relationship Id="rId43" Type="http://schemas.openxmlformats.org/officeDocument/2006/relationships/slide" Target="slide3.xml"/><Relationship Id="rId4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ce and Mathematics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14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Natur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 evidence for a claim can be detected with a human sense, even if the thing itself is not detectable, the claim DOES still meet this criterion for sci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bserv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number of significant figures in 25,809.0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ni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are the two ways to determine if a measurement is preci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similar repeated values and high significant figur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olution to 3.08 g x 6.1 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19 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80.507 m / 0.009 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373392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9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0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41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2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3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c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ient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9000 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450.1 g + 8.09 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458.2 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measurement is very close to the value in reality, it is called highly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ccur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equation for calculating percent err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100 x ((observed - actual)/actual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-.034% and 35.08%, this is the one that is more accu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-.034%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percent error when the observed measurement is 8.97 g and the actual measurement is 9.45 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ix characteristics of science are summarized in this acrony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-5.08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percent error when the observed measurement is 45.7 m and the actual measurement is 34.760809 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31.4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7.8 x 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4.3 x 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this is the larger numb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4.3 x 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3.408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ritten norm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340,8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2.5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x  1.3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3.3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4.3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/  2.8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LOR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1.5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1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3.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4.2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3.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metric unit for surface area, and its symb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quare meter (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what grams (g) is the metric unit f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number of meters (m) in a kilometer (km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100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prefix for something that is 100 times smaller than the base un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y, comparative literature, sports psychology, and dance are examples of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enti-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3.281 feet (ft) in a meter (m).  There are 1609.344 m in a mile (mi)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feet are in 6.000000 mi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31,680 f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non-sci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ield or proposal that does not meet all 6 characteristics of science, but nevertheless claims to be a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seudoscie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laim that involves the spiritual, religious, metaphysical, supernatural, or strictly human creations like culture, does not meet this characteristic of sci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ebecca Stang</cp:lastModifiedBy>
  <dcterms:modified xsi:type="dcterms:W3CDTF">2008-09-21T15:26:25Z</dcterms:modified>
  <cp:revision>112</cp:revision>
  <dc:subject/>
  <dc:title>No Slide Title</dc:title>
</cp:coreProperties>
</file>